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108-813C-40DC-B9DB-83AA1F76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087-E70E-4738-B6D5-432F444E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528-70AC-4EC4-8D8B-C6DC31E5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043-8CCC-4E42-BEFC-E6748127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8C57-F932-46CF-8FAE-32B74447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DA6E-492F-479A-9127-41BE8729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1BA1-9973-4B3B-A61B-4603CC3F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2DA8-48C9-43AA-84BA-0DD2428A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E52C-928B-42E7-8A5F-914FF35C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C797-D768-4D9A-91D9-B6E3D841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FA2A-DBC2-4A64-861A-91BB5F7B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7E7-018C-48B2-B968-85DD8891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046-7D7D-4727-A87D-D3451B76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8396-D475-43D3-BE6E-1C2431F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1FA0-4491-4A02-83D1-367D7645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88DA-FBFE-45DD-BA39-6C72F200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1E09-3DB8-4561-8416-34A3FF3B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470-CB58-41F9-AC4B-DC9AB45F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D72-4AC2-4AB0-AE5B-F4702611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A13-4BF9-4C2F-AA9F-7F1B4809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D63-97F6-4EC5-958D-0E4DB501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672-30F0-45FA-9938-93B085C5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1C3-5D8D-4ADB-A963-78D98994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81A-FA63-4A44-B4DE-78B5DE48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1126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orme 11268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Rectangle à coins arrondis 1127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Organigramme : Délai 11271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9856-A88C-4E86-892E-1CA63E69931A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36352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2" name="Groupe 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Rectangle à coins arrondis 9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Organigramme : Délai 10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79CC-EEEA-46FB-8A86-CA29A2101D08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63000" y="1269360"/>
            <a:ext cx="790164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Projet SIG du SIDEC du Jura</a:t>
            </a:r>
            <a:br>
              <a:rPr sz="3200"/>
            </a:br>
            <a:br>
              <a:rPr sz="1600"/>
            </a:b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La mise en œuvre du Système d’Information Géographique départemental pour les collectivités du Jura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80000" y="2975040"/>
            <a:ext cx="5184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Arial"/>
              </a:rPr>
              <a:t>Soutenance du stage de fin d’études Lundi 8 octobre 200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ZoneTexte 2051"/>
          <p:cNvSpPr/>
          <p:nvPr/>
        </p:nvSpPr>
        <p:spPr>
          <a:xfrm>
            <a:off x="3600360" y="6508800"/>
            <a:ext cx="565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3366"/>
                </a:solidFill>
                <a:latin typeface="Arial"/>
              </a:rPr>
              <a:t>Jean-Charles Guimard – Magistère d’Aménagement – Année 2006-2007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44800" y="189000"/>
            <a:ext cx="1447920" cy="581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2460" t="10369" r="0" b="0"/>
          <a:stretch/>
        </p:blipFill>
        <p:spPr>
          <a:xfrm>
            <a:off x="7164360" y="115920"/>
            <a:ext cx="187344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Finalités de la recherche : proposer des solutions transposables au cadastre français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mparaison d’ordre général (échelle nationale) ou comparaison de 2 collectivités locales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es théories, des concepts de l’I.G.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3366"/>
                </a:solidFill>
                <a:latin typeface="Arial"/>
              </a:rPr>
              <a:t>Le nom du spécialiste du cadastre à la MSH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ommai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22552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territoire jurassi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département rur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métiers du SID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métiers historiques et les nouveaux proj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rojet S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uivi du déploiement du proj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xemple de mise en oeuv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onclus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on rôle dans le proj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’après st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 territoire jurassi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4086360" cy="4308480"/>
          </a:xfrm>
          <a:prstGeom prst="rect">
            <a:avLst/>
          </a:prstGeom>
          <a:ln w="0">
            <a:noFill/>
          </a:ln>
        </p:spPr>
      </p:pic>
      <p:sp>
        <p:nvSpPr>
          <p:cNvPr id="103" name="Forme 17410"/>
          <p:cNvSpPr/>
          <p:nvPr/>
        </p:nvSpPr>
        <p:spPr>
          <a:xfrm>
            <a:off x="838080" y="2362320"/>
            <a:ext cx="394992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Un département rur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1 ville de plus de 20000 habit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450 communes (sur 544) ont moins de 500 habit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métiers du SID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9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s métiers histor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électricité (concessionnaire du résea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équipement collecti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informat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e nouveaux statuts pour de nouveaux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éner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haut débit (qui permet de réaliser le projet SI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rojet S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 projet SIG</a:t>
            </a:r>
            <a:br>
              <a:rPr sz="3600"/>
            </a:b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006666"/>
                </a:solidFill>
                <a:latin typeface="Arial"/>
              </a:rPr>
              <a:t>Suivi du déploi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ivi du déploi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Arial"/>
              </a:rPr>
              <a:t>(accéder au serveur SIG départemental ; Utilisateur : suivisi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ujet actuel : le cada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adastre comme information géographique de base dans un S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omparaison du cadastre français au cadastre québéco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imites d’utilisation du cadastre en F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u Québec, les mêmes problèmes? A priori, non. Alors voir si des solutions sont transposables au cadastre frança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ujet actuel : le cada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ources d’informations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N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FIGE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Géoréz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irective INSP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EN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GN / DG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apport LENGAG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RNF </a:t>
            </a:r>
            <a:r>
              <a:rPr b="0" i="1" lang="fr-FR" sz="1600" spc="-1" strike="noStrike">
                <a:solidFill>
                  <a:srgbClr val="003366"/>
                </a:solidFill>
                <a:latin typeface="Arial"/>
              </a:rPr>
              <a:t>(Ministère des Ressources Naturelles et de la Faune – Québe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Quelques idé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a genèse du cadas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’historique du cadas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Grille de comparai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Utilisations du cadastre en France et au Québec (fiscalité, topographie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8:37:26Z</dcterms:created>
  <dc:creator>GUIMARD</dc:creator>
  <dc:description/>
  <dc:language>en-US</dc:language>
  <cp:lastModifiedBy>maeva.moreau</cp:lastModifiedBy>
  <dcterms:modified xsi:type="dcterms:W3CDTF">2007-10-05T08:23:51Z</dcterms:modified>
  <cp:revision>45</cp:revision>
  <dc:subject/>
  <dc:title>Mémoire de recherche </dc:title>
</cp:coreProperties>
</file>