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349-0239-4A4C-8580-655C44F1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0FC3-AE7C-43BD-8027-F5CD6E49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3ED-25ED-4191-B234-D2AD6B3C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994-1DA0-4C1A-BE95-6DD67453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66A3-B797-4CBF-BC30-E9E53D2F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0240-33DD-44DF-AD7A-6F41669D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953D-F2A9-4C51-9A59-110631DB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D137-DCB4-4EE8-A7F7-5966CED1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127B-8A74-45C5-B018-10B58465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7EE0-3D61-4DE3-8848-3E6153AB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119A-2F60-4AC4-B0D3-DB2E5DC0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655-0118-490F-B125-7550DE1C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A393-1B4F-4B55-85A2-B6DDDC04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427C-7E5E-4E0D-A52F-675A1160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1971-DABE-454F-B95F-DD76A9F3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389C-1BD8-43E5-910C-F8BAEE95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D659-DB8A-4E65-B59E-1E4A140A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E36-4E8A-4745-9498-C8B39356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3E0-C1DD-49B2-A6AF-10EA77BB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075-AD6D-479F-8798-5BB26CC8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E2D-DFBF-4E5B-885D-8A015B3D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DF6-6250-48DF-B1DB-1FD18CD4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A2EA-C428-4C24-9674-1C5BF9A8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D6E-176C-453D-A453-ADBE0366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11267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orme 11268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Rectangle à coins arrondis 11270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Organigramme : Délai 11271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8345-7F0B-438B-B119-A339A06739FA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363528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Rectangle à coins arrondis 7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2" name="Groupe 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Rectangle à coins arrondis 9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Organigramme : Délai 10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3649-207C-42A4-A4D9-AF58B9AE423E}" type="slidenum">
              <a:rPr b="1" lang="fr-F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63000" y="1269360"/>
            <a:ext cx="790164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66"/>
                </a:solidFill>
                <a:latin typeface="Arial"/>
              </a:rPr>
              <a:t>Projet SIG du SIDEC du Jura</a:t>
            </a:r>
            <a:br>
              <a:rPr sz="3200"/>
            </a:br>
            <a:br>
              <a:rPr sz="1600"/>
            </a:br>
            <a:r>
              <a:rPr b="1" lang="fr-FR" sz="2000" spc="-1" strike="noStrike">
                <a:solidFill>
                  <a:srgbClr val="003366"/>
                </a:solidFill>
                <a:latin typeface="Arial"/>
              </a:rPr>
              <a:t>La mise en œuvre du Système d’Information Géographique départemental pour les collectivités du Jura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780000" y="2975040"/>
            <a:ext cx="5184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Arial"/>
              </a:rPr>
              <a:t>Soutenance du stage de fin d’études Lundi 8 octobre 200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ZoneTexte 2051"/>
          <p:cNvSpPr/>
          <p:nvPr/>
        </p:nvSpPr>
        <p:spPr>
          <a:xfrm>
            <a:off x="3600360" y="6508800"/>
            <a:ext cx="565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3366"/>
                </a:solidFill>
                <a:latin typeface="Arial"/>
              </a:rPr>
              <a:t>Jean-Charles Guimard – Magistère d’Aménagement – Année 2006-2007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44800" y="189000"/>
            <a:ext cx="1447920" cy="581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2460" t="10369" r="0" b="0"/>
          <a:stretch/>
        </p:blipFill>
        <p:spPr>
          <a:xfrm>
            <a:off x="7164360" y="115920"/>
            <a:ext cx="187344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Finalités de la recherche : proposer des solutions transposables au cadastre français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mparaison d’ordre général (échelle nationale) ou comparaison de 2 collectivités locales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es théories, des concepts de l’I.G.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3366"/>
                </a:solidFill>
                <a:latin typeface="Arial"/>
              </a:rPr>
              <a:t>Le nom du spécialiste du cadastre à la MSH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ommai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22552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territoire jurassi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Un département rur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s métiers du SIDE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es métiers historiques et les nouveaux proj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projet SI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Suivi du déploiement du proj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xemple de mise en oeuv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onclus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on rôle dans le proj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L’après st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 territoire jurassi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4086360" cy="4308480"/>
          </a:xfrm>
          <a:prstGeom prst="rect">
            <a:avLst/>
          </a:prstGeom>
          <a:ln w="0">
            <a:noFill/>
          </a:ln>
        </p:spPr>
      </p:pic>
      <p:sp>
        <p:nvSpPr>
          <p:cNvPr id="103" name="Forme 17410"/>
          <p:cNvSpPr/>
          <p:nvPr/>
        </p:nvSpPr>
        <p:spPr>
          <a:xfrm>
            <a:off x="838080" y="2362320"/>
            <a:ext cx="394992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Un département rura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1 ville de plus de 20000 habit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450 communes (sur 544) ont moins de 500 habit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s métiers du SIDE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97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es métiers histor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électricité (concessionnaire du réseau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équipement collecti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informati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De nouveaux statuts pour de nouveaux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’éner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haut débit (qui permet de réaliser le projet SI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projet SI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Le projet SIG</a:t>
            </a:r>
            <a:br>
              <a:rPr sz="3600"/>
            </a:b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006666"/>
                </a:solidFill>
                <a:latin typeface="Arial"/>
              </a:rPr>
              <a:t>Suivi du déploiement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uivi du déploi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3366"/>
                </a:solidFill>
                <a:latin typeface="Arial"/>
              </a:rPr>
              <a:t>(accéder au serveur SIG départemental ; Utilisateur : suivisi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ujet actuel : le cadas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e cadastre comme information géographique de base dans un SI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omparaison du cadastre français au cadastre québéco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Limites d’utilisation du cadastre en Fr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u Québec, les mêmes problèmes? A priori, non. Alors voir si des solutions sont transposables au cadastre frança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Sujet actuel : le cadas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Sources d’informations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CNI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AFIGE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Géoréz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Directive INSP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SEN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IGN / DG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Rapport LENGAG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Arial"/>
              </a:rPr>
              <a:t>MRNF </a:t>
            </a:r>
            <a:r>
              <a:rPr b="0" i="1" lang="fr-FR" sz="1600" spc="-1" strike="noStrike">
                <a:solidFill>
                  <a:srgbClr val="003366"/>
                </a:solidFill>
                <a:latin typeface="Arial"/>
              </a:rPr>
              <a:t>(Ministère des Ressources Naturelles et de la Faune – Québec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Arial"/>
              </a:rPr>
              <a:t>Quelques idé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a genèse du cadas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’historique du cadas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Grille de comparai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Utilisations du cadastre en France et au Québec (fiscalité, topographie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8:37:26Z</dcterms:created>
  <dc:creator>GUIMARD</dc:creator>
  <dc:description/>
  <dc:language>en-US</dc:language>
  <cp:lastModifiedBy>maeva.moreau</cp:lastModifiedBy>
  <dcterms:modified xsi:type="dcterms:W3CDTF">2007-10-05T08:23:51Z</dcterms:modified>
  <cp:revision>45</cp:revision>
  <dc:subject/>
  <dc:title>Mémoire de recherche </dc:title>
</cp:coreProperties>
</file>