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7A79-99B4-4783-B538-CC4854BB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FA0B-BF3F-42A4-AD80-2B705F07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4384-BDC8-4FE9-BE4D-22A19711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9DB5-8C2C-459F-BD0D-233F43DB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D65-9DDE-40B2-BE70-D9D7BA1C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B763-0518-474A-ACD5-93925519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5E2A-F051-4694-AE43-BE22951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D810-8F93-4121-B9B3-8F7B353C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3D9E-BFC2-4099-8E9C-D8A8FAF3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AB67-93C3-4E7F-A34F-AE9894B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E5EE-D997-40AF-A57B-9C868F3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CE7A-BA64-4D70-B7DB-B23A9E9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9F0-87D8-491C-A3EC-1E4373E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7D25-ACF3-470B-B1D4-F45ABDB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DF88-B8C7-4479-BF3F-0AE4F987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219D-4C5D-49C1-9129-4E875D10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88F-819E-4A7B-817A-106F8E72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0121-7C09-4967-AD11-81583688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236C-8F39-498F-95F5-2AEFC8A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6095-2C46-4ABD-9165-D6D03FB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56C6-8DD4-48B3-AC7B-FCB3C20E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9BE3-B03D-4F97-95CE-6BA9CCC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27C3-188B-4F4F-9915-00725D8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69CA-F47A-484C-AE57-C4A36F4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4F57-C6F2-42DA-88B8-8AE4CE6B2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074-B5E3-439C-B4D5-823F0DCA0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2309760"/>
            <a:ext cx="6227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t urbain et marketing à destination des habi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61628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’amélioration de la communication lors d’un projet urbain à travers les sites Internet utilisant du marketing à destination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752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ura STO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6280"/>
            <a:ext cx="705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Soutenance de recherche Magistère 3 / Mas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63752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uteur de recherche 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. Martou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7800" y="189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9 ma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4971960"/>
            <a:ext cx="379440" cy="720720"/>
          </a:xfrm>
          <a:custGeom>
            <a:avLst/>
            <a:gdLst>
              <a:gd name="textAreaLeft" fmla="*/ 50760 w 379440"/>
              <a:gd name="textAreaRight" fmla="*/ 328680 w 3794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35280" y="5013360"/>
            <a:ext cx="59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Offrir une motivation à la participation des habi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942920" y="2131920"/>
            <a:ext cx="6949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térêt certain pour les projets urb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habitants ne voient pas l’intérêt de participer et le rôle qu’ils peuvent avoir dans le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enchant individua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34920" y="1628280"/>
            <a:ext cx="705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ne hypothèse vérifié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Bibliographie limitée : termes réc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roblèmes de représentativité : nombre de personnes interrogées limité, nombre de sites et de communes étudiés restre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nque d’expé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La démocratie locale participative a encore beaucoup de chemin à parcourir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16360" y="2309760"/>
            <a:ext cx="6227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t urbain et marketing à destination des habi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461628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’amélioration de la communication lors d’un projet urbain à travers les sites Internet utilisant du marketing à destination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63752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ura STO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476280"/>
            <a:ext cx="705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Soutenance de recherche Magistère 3 / Mas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63752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uteur de recherche 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. Martou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97800" y="189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9 ma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7056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rojet ur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Ensemble des actions d’une certaine ampleur, fonctionnant comme un systè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éalisées dans la vil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isant à améliorer le cadre de vie d’une commune ou d’un quar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S’inscrivant dans un projet global et cohé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1628640"/>
            <a:ext cx="705636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Marketing à destination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éclinaison du marketing urb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e à convaincre les habitants de la qualité des services urbains locaux grâce à une information stratégique de la part des acteurs, privés ou publics, qui devront influencer les 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rsqu’il est utilisé par les acteurs publics, on se retrouve dans un contexte de démocratie participative où l’objectif est plutôt de vendre la qualité du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5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5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125360"/>
            <a:ext cx="705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Problème généra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ent améliorer la communication dans les projets urb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jet d’actualit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ommun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re besoin d’amélior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716280"/>
            <a:ext cx="7129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Question général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es sites Internet utilisant le marketing à destination des habitants sont-ils favorables au projet ou le ralentissent-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 site : un moyen d’information et d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util d’actualit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 rôle intéressant que peuvent avoir les si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63640" y="1198440"/>
            <a:ext cx="712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Question de recherch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ent les habitants perçoivent-ils les sites communaux utilisant du marketing à destination des habitants sur la partie concernant les projets urb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participation des habitants encore fa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 sites Internet, moyens permettant d’accroître la particip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soin de vérification auprès des 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005360"/>
            <a:ext cx="7129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Hypothès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e marketing à destination des habitants, développé sur les sites des communes, est utilisé pour valoriser les projets urbains, et non dans le but d’une meilleure participation des habitants à ceux-ci. Ainsi, les habitants perçoivent le site communal comme un site informatif et non communica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vérifier : confirmer, infirmer ou nu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0" y="371628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5880"/>
            <a:ext cx="73803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Présentation des si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 suivant nos propres crit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l en ressor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 Ha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no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u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268280"/>
            <a:ext cx="7380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Typologie et choix des site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te vitrine : Sau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te informatif : L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te communicatif : Grenoble et Le Ha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5537160"/>
            <a:ext cx="7380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Enquê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près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abitants (6) et des professionnel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942920" y="1844640"/>
            <a:ext cx="6949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% des français ont un micro-ordinateur et 46% une connexion Internet (e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articipation des habitants améliore la qualité du projet urb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oyens de communication sur les sites des communes sont peu nombr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sites vus comme des sites informatifs et non communic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4560" y="5505480"/>
            <a:ext cx="384120" cy="720720"/>
          </a:xfrm>
          <a:custGeom>
            <a:avLst/>
            <a:gdLst>
              <a:gd name="textAreaLeft" fmla="*/ 51480 w 384120"/>
              <a:gd name="textAreaRight" fmla="*/ 332640 w 3841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35280" y="5546880"/>
            <a:ext cx="60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Développer les moyens de communication via les sites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14560" y="4786200"/>
            <a:ext cx="374760" cy="720720"/>
          </a:xfrm>
          <a:custGeom>
            <a:avLst/>
            <a:gdLst>
              <a:gd name="textAreaLeft" fmla="*/ 50040 w 374760"/>
              <a:gd name="textAreaRight" fmla="*/ 324720 w 3747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5280" y="4827600"/>
            <a:ext cx="58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Rendre attractif le site Internet : dans son information et dans sa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42920" y="1844640"/>
            <a:ext cx="6949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ritères « scientifiques » choisis ne sont pas les mêmes que les 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emploi important du marketing à destination des habitants n’induit pas une meilleure 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ellement, peu voire pas de moyens incitent les habitants à partici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0" y="36687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4595760"/>
            <a:ext cx="358920" cy="720720"/>
          </a:xfrm>
          <a:custGeom>
            <a:avLst/>
            <a:gdLst>
              <a:gd name="textAreaLeft" fmla="*/ 47880 w 358920"/>
              <a:gd name="textAreaRight" fmla="*/ 311040 w 3589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49280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Informer davantage la population sur les possibilités de participation à la vie de sa commune, qui lui sont offe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42920" y="1844640"/>
            <a:ext cx="6949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u d’habitants connaissent les différents moyens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habitants ne voient pas l’intérêt de participer et le rôle qu’ils peuvent avoir dans le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371628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900680"/>
            <a:ext cx="363600" cy="720720"/>
          </a:xfrm>
          <a:custGeom>
            <a:avLst/>
            <a:gdLst>
              <a:gd name="textAreaLeft" fmla="*/ 48600 w 363600"/>
              <a:gd name="textAreaRight" fmla="*/ 315000 w 3636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479736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Une diversification de l’information en complément du site de la commune et des moyens de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42920" y="2131560"/>
            <a:ext cx="6949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el intérêt de la population aux projets urbains mais les habitants demandent davantage d’informations sur les possibilités et les modalités de participation à la vie de la commune ainsi qu’aux projets urb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site Internet seul ne suffit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27:56Z</dcterms:created>
  <dc:creator>stolz</dc:creator>
  <dc:description/>
  <dc:language>en-US</dc:language>
  <cp:lastModifiedBy>stolz</cp:lastModifiedBy>
  <dcterms:modified xsi:type="dcterms:W3CDTF">2007-05-29T10:27:36Z</dcterms:modified>
  <cp:revision>90</cp:revision>
  <dc:subject/>
  <dc:title>Diapositive 1</dc:title>
</cp:coreProperties>
</file>