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281A8-6B02-42C6-88F6-6D9DDAFA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1EF15-4E2B-4081-B9E2-E5D40FDC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0C845-2DD4-4F1B-BEBC-FF0840DD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90A4A-7928-40BB-82D5-2324DB140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17B6-C79C-4A54-8A6A-35F11E8F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E5F3-ADCE-4F41-BBE8-1D970B62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102D-E346-4D42-BE7F-392A0E7F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624C-CAA6-462B-AF01-AA4A20EA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5676-8F2D-489F-8B3E-65972461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3CF7-80C0-44F9-8D68-8B1E3D36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2659-D75F-43E8-A178-72FCF735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EAC01-3C22-4A79-842D-945146AA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43FD-992F-4079-B825-CCB79FAE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D975-E8BD-4A51-94C3-D05D709E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5F62-39C6-420B-985F-31400290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A088-B135-4E9D-88D1-53161FDEA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7F01-C09C-4944-9376-B156C178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5D7E8-0B12-40DF-81C3-5A3B043C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BE4DD-FF68-40E6-8588-127BEED4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39F0E-7AFB-4925-835F-95BE8F8C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1C06F-4CBF-43B9-ACDF-2DC36E55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00091-F545-419B-8D1A-5733631A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79604-9D5A-4CBB-A7BA-B31AB55C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EA82D-395F-44A8-A27B-113CF0C9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e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35EF-0CCF-437D-AEC2-3449A5D590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e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EA91-FDA7-4612-8EC4-53C51A0CAE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916360" y="2309760"/>
            <a:ext cx="6227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ojet urbain et marketing à destination des habita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4616280"/>
            <a:ext cx="77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L’amélioration de la communication lors d’un projet urbain à travers les sites Internet utilisant du marketing à destination des habi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63752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aura STOL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476280"/>
            <a:ext cx="7056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Soutenance de recherche Magistère 3 / Maste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637524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Tuteur de recherche 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D. Martou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97800" y="189000"/>
            <a:ext cx="13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9 mai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e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-757080" y="-747720"/>
            <a:ext cx="10442520" cy="18716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4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ésultats et préconi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125360"/>
            <a:ext cx="1763640" cy="573264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48760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résentation de la reche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6396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Résultats - Préconis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508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5972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14560" y="4971960"/>
            <a:ext cx="379440" cy="720720"/>
          </a:xfrm>
          <a:custGeom>
            <a:avLst/>
            <a:gdLst>
              <a:gd name="textAreaLeft" fmla="*/ 50760 w 379440"/>
              <a:gd name="textAreaRight" fmla="*/ 328680 w 37944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35280" y="5013360"/>
            <a:ext cx="59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Offrir une motivation à la participation des habit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942920" y="2131920"/>
            <a:ext cx="6949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intérêt certain pour les projets urb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habitants ne voient pas l’intérêt de participer et le rôle qu’ils peuvent avoir dans les proj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penchant individual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20" y="3740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Études de 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e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757440" y="-748080"/>
            <a:ext cx="10442520" cy="18716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txBody>
          <a:bodyPr lIns="90000" rIns="90000" tIns="46800" bIns="154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834920" y="1628280"/>
            <a:ext cx="7057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Une hypothèse vérifié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Bibliographie limitée : termes réc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Problèmes de représentativité : nombre de personnes interrogées limité, nombre de sites et de communes étudiés restre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Manque d’expé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La démocratie locale participative a encore beaucoup de chemin à parcourir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125360"/>
            <a:ext cx="1763640" cy="573264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8760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résentation de la reche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486396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Résultats - Préconis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508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972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20" y="3740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Études de 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e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916360" y="2309760"/>
            <a:ext cx="6227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ojet urbain et marketing à destination des habita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4360" y="4616280"/>
            <a:ext cx="77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L’amélioration de la communication lors d’un projet urbain à travers les sites Internet utilisant du marketing à destination des habi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4000" y="63752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aura STOL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9280" y="476280"/>
            <a:ext cx="7056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Soutenance de recherche Magistère 3 / Maste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637524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Tuteur de recherche 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D. Martou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597800" y="189000"/>
            <a:ext cx="13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29 mai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e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757440" y="-748080"/>
            <a:ext cx="10442520" cy="18716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txBody>
          <a:bodyPr lIns="90000" rIns="90000" tIns="46800" bIns="154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63280" y="1628280"/>
            <a:ext cx="705636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Projet urb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- Ensemble des actions d’une certaine ampleur, fonctionnant comme un systèm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éalisées dans la vil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Visant à améliorer le cadre de vie d’une commune ou d’un quart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- S’inscrivant dans un projet global et cohé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63640" y="1628640"/>
            <a:ext cx="705636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Marketing à destination des habi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éclinaison du marketing urb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ise à convaincre les habitants de la qualité des services urbains locaux grâce à une information stratégique de la part des acteurs, privés ou publics, qui devront influencer les habi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orsqu’il est utilisé par les acteurs publics, on se retrouve dans un contexte de démocratie participative où l’objectif est plutôt de vendre la qualité du proj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125360"/>
            <a:ext cx="1763640" cy="573264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48760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résentation de la reche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920" y="3740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Études de 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86396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Résultats - Préconis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508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972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remove" presetClass="emph" presetID="5" presetSubtype="5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" dur="indefinite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" dur="indefinite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remove" presetClass="emph" presetID="5" presetSubtype="5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" dur="indefinite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" dur="indefinite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5" presetSubtype="5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" dur="indefinite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" dur="indefinite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e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757440" y="-748080"/>
            <a:ext cx="10442520" cy="18716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txBody>
          <a:bodyPr lIns="90000" rIns="90000" tIns="46800" bIns="154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ésentation de la recher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125360"/>
            <a:ext cx="1763640" cy="573264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63640" y="1125360"/>
            <a:ext cx="70563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200" spc="-1" strike="noStrike" u="sng">
                <a:solidFill>
                  <a:srgbClr val="000066"/>
                </a:solidFill>
                <a:uFillTx/>
                <a:latin typeface="Arial"/>
              </a:rPr>
              <a:t>Problème général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omment améliorer la communication dans les projets urbai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jet d’actualité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 communicati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ncore besoin d’amélioration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3640" y="3716280"/>
            <a:ext cx="71294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200" spc="-1" strike="noStrike" u="sng">
                <a:solidFill>
                  <a:srgbClr val="000066"/>
                </a:solidFill>
                <a:uFillTx/>
                <a:latin typeface="Arial"/>
              </a:rPr>
              <a:t>Question générale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es sites Internet utilisant le marketing à destination des habitants sont-ils favorables au projet ou le ralentissent-i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 site : un moyen d’information et de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Outil d’actualité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 rôle intéressant que peuvent avoir les sit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48760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Présentation de la reche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920" y="3740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Études de 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86396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Résultats - Préconis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508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972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e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63640" y="1198440"/>
            <a:ext cx="71294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200" spc="-1" strike="noStrike" u="sng">
                <a:solidFill>
                  <a:srgbClr val="000066"/>
                </a:solidFill>
                <a:uFillTx/>
                <a:latin typeface="Arial"/>
              </a:rPr>
              <a:t>Question de recherche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omment les habitants perçoivent-ils les sites communaux utilisant du marketing à destination des habitants sur la partie concernant les projets urbai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 participation des habitants encore faibl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 sites Internet, moyens permettant d’accroître la particip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esoin de vérification auprès des habi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63640" y="4005360"/>
            <a:ext cx="71294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200" spc="-1" strike="noStrike" u="sng">
                <a:solidFill>
                  <a:srgbClr val="000066"/>
                </a:solidFill>
                <a:uFillTx/>
                <a:latin typeface="Arial"/>
              </a:rPr>
              <a:t>Hypothèse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e marketing à destination des habitants, développé sur les sites des communes, est utilisé pour valoriser les projets urbains, et non dans le but d’une meilleure participation des habitants à ceux-ci. Ainsi, les habitants perçoivent le site communal comme un site informatif et non communicati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 vérifier : confirmer, infirmer ou nu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757440" y="-748080"/>
            <a:ext cx="10442520" cy="18716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txBody>
          <a:bodyPr lIns="90000" rIns="90000" tIns="46800" bIns="154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ésentation de la recher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125360"/>
            <a:ext cx="1763640" cy="573264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757080" y="-747720"/>
            <a:ext cx="10442520" cy="18716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4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ésentation de la recher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125360"/>
            <a:ext cx="1763640" cy="573264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48760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Présentation de la reche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86396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Résultats - Préconis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508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972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920" y="371628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Études de 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e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-757080" y="-747720"/>
            <a:ext cx="10442520" cy="18716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4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Études de 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125360"/>
            <a:ext cx="1763640" cy="573264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2855880"/>
            <a:ext cx="738036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200" spc="-1" strike="noStrike" u="sng">
                <a:solidFill>
                  <a:srgbClr val="000066"/>
                </a:solidFill>
                <a:uFillTx/>
                <a:latin typeface="Arial"/>
              </a:rPr>
              <a:t>Présentation des site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alyse suivant nos propres critè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l en ressort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 Ha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reno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um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63640" y="1268280"/>
            <a:ext cx="7380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200" spc="-1" strike="noStrike" u="sng">
                <a:solidFill>
                  <a:srgbClr val="000066"/>
                </a:solidFill>
                <a:uFillTx/>
                <a:latin typeface="Arial"/>
              </a:rPr>
              <a:t>Typologie et choix des sites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te vitrine : Saum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te informatif : Li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te communicatif : Grenoble et Le Ha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3640" y="5537160"/>
            <a:ext cx="73803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000066"/>
                </a:solidFill>
                <a:uFillTx/>
                <a:latin typeface="Arial"/>
              </a:rPr>
              <a:t>Enquête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uprès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e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habitants (6) et des professionnels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48760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résentation de la reche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86396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Résultats - Préconis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508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5972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920" y="3740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Études de 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e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-757080" y="-747720"/>
            <a:ext cx="10442520" cy="18716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4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ésultats et préconi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125360"/>
            <a:ext cx="1763640" cy="573264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48760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résentation de la reche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86396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Résultats - Préconis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508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5972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942920" y="1844640"/>
            <a:ext cx="69498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5% des français ont un micro-ordinateur et 46% une connexion Internet (en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participation des habitants améliore la qualité du projet urb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moyens de communication sur les sites des communes sont peu nombr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sites vus comme des sites informatifs et non communicati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14560" y="5505480"/>
            <a:ext cx="384120" cy="720720"/>
          </a:xfrm>
          <a:custGeom>
            <a:avLst/>
            <a:gdLst>
              <a:gd name="textAreaLeft" fmla="*/ 51480 w 384120"/>
              <a:gd name="textAreaRight" fmla="*/ 332640 w 38412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35280" y="5546880"/>
            <a:ext cx="60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Développer les moyens de communication via les sites Int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920" y="3740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Études de 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e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-757080" y="-747720"/>
            <a:ext cx="10442520" cy="18716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4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ésultats et préconi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125360"/>
            <a:ext cx="1763640" cy="573264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48760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résentation de la reche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486396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Résultats - Préconis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508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5972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14560" y="4786200"/>
            <a:ext cx="374760" cy="720720"/>
          </a:xfrm>
          <a:custGeom>
            <a:avLst/>
            <a:gdLst>
              <a:gd name="textAreaLeft" fmla="*/ 50040 w 374760"/>
              <a:gd name="textAreaRight" fmla="*/ 324720 w 3747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35280" y="4827600"/>
            <a:ext cx="58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Rendre attractif le site Internet : dans son information et dans sa commun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942920" y="1844640"/>
            <a:ext cx="6949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critères « scientifiques » choisis ne sont pas les mêmes que les habi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emploi important du marketing à destination des habitants n’induit pas une meilleure particip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ellement, peu voire pas de moyens incitent les habitants à particip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920" y="366876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Études de 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e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-757080" y="-747720"/>
            <a:ext cx="10442520" cy="18716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4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ésultats et préconi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125360"/>
            <a:ext cx="1763640" cy="573264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48760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résentation de la reche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86396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Résultats - Préconis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508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972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50920" y="4595760"/>
            <a:ext cx="358920" cy="720720"/>
          </a:xfrm>
          <a:custGeom>
            <a:avLst/>
            <a:gdLst>
              <a:gd name="textAreaLeft" fmla="*/ 47880 w 358920"/>
              <a:gd name="textAreaRight" fmla="*/ 311040 w 35892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4492800"/>
            <a:ext cx="561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Informer davantage la population sur les possibilités de participation à la vie de sa commune, qui lui sont offer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942920" y="1844640"/>
            <a:ext cx="6949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u d’habitants connaissent les différents moyens de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habitants ne voient pas l’intérêt de participer et le rôle qu’ils peuvent avoir dans les proj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920" y="371628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Études de 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e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-757080" y="-747720"/>
            <a:ext cx="10442520" cy="18716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4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ésultats et préconi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125360"/>
            <a:ext cx="1763640" cy="573264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48760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résentation de la reche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486396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Résultats - Préconis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508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5972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50920" y="4900680"/>
            <a:ext cx="363600" cy="720720"/>
          </a:xfrm>
          <a:custGeom>
            <a:avLst/>
            <a:gdLst>
              <a:gd name="textAreaLeft" fmla="*/ 48600 w 363600"/>
              <a:gd name="textAreaRight" fmla="*/ 315000 w 36360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71640" y="4797360"/>
            <a:ext cx="568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Une diversification de l’information en complément du site de la commune et des moyens de commun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942920" y="2131560"/>
            <a:ext cx="69498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éel intérêt de la population aux projets urbains mais les habitants demandent davantage d’informations sur les possibilités et les modalités de participation à la vie de la commune ainsi qu’aux projets urb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site Internet seul ne suffit 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920" y="374004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Études de 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4:27:56Z</dcterms:created>
  <dc:creator>stolz</dc:creator>
  <dc:description/>
  <dc:language>en-US</dc:language>
  <cp:lastModifiedBy>stolz</cp:lastModifiedBy>
  <dcterms:modified xsi:type="dcterms:W3CDTF">2007-05-29T10:27:36Z</dcterms:modified>
  <cp:revision>90</cp:revision>
  <dc:subject/>
  <dc:title>Diapositive 1</dc:title>
</cp:coreProperties>
</file>